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629-4473-431F-B5A6-35AF2DD2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030-83B5-4A23-B0D7-1E02F37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C8A-4188-4B8B-9906-DB6AAF52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E1A-68B1-430E-9E84-AB45CB70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968A-BEE3-45F6-8E09-0B886E4A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8968-7FD8-4E4C-A72D-2FF0A695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92F-210E-4AE1-BE14-940CF66C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6335-7589-4F27-96E1-FA82A926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5B26-D1EF-4505-8CDA-13C90AFC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D4E7-7306-4CC7-B00D-668591BA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56F8-09F0-4D90-B4C5-4AE2480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C6E-FE5F-4591-B3E1-94BA5ADB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CAF2-CEFC-4D91-98E3-54BDA1B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7329-AF04-40D8-9F01-C0FBBC6E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23E2-DF6E-41A8-ABB5-CE6BCB0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8E2A-69E8-4780-BF2E-9F3DAD09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67F6-E43E-4363-B371-A337B3E7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4A2-5D94-41DF-B361-A32F06C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1F2-7CBD-4D4A-9971-09114BFB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89A-09F4-4F68-A34E-E68ECC4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45B-D734-4D3E-81E8-03B1A959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F9E-71CE-443F-B4DB-28930422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D30-24BF-46AA-831B-F8F3A31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DD8-56AC-436D-B660-519AAEDD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5C6D-3DD8-4FF2-B48E-A26C78BC4A5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074-EA1B-47B0-9339-6CC2C4A68A9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monlemonade.files.wordpress.com/2010/06/goals2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6094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2f1311"/>
                </a:solidFill>
                <a:uFillTx/>
                <a:latin typeface="Alba Super"/>
              </a:rPr>
              <a:t>Setting Objectiv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To provide direction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71625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will students lea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rrow student focus;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t too specific, but flex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sonalize  and communicate learn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als (I can statemen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0364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5:11Z</dcterms:created>
  <dc:creator>workstation</dc:creator>
  <dc:description/>
  <dc:language>en-US</dc:language>
  <cp:lastModifiedBy>workstation</cp:lastModifiedBy>
  <dcterms:modified xsi:type="dcterms:W3CDTF">2010-08-03T14:38:58Z</dcterms:modified>
  <cp:revision>2</cp:revision>
  <dc:subject/>
  <dc:title>Slide 1</dc:title>
</cp:coreProperties>
</file>